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253-A36B-4B72-8DEE-EEE99113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61C-54E0-4637-B281-2181594E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141-7989-48C9-9F4D-48DD9AFA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FC0-ED00-494C-820C-2D0ACD60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A65B-5B90-4630-9F97-C2205021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B164-EFE2-4D1F-A668-58941C2D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9438-72A5-4009-8E89-583BDE59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5E5-C5F8-4CF6-AAD3-25234757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71B0-95B2-4771-ABD8-C7238D10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5FB2-BFDD-48A0-B397-E7CA5D5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0A90-B739-464C-B527-6796CFA3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F59-6B39-4E32-B097-90F0300C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101F-1F0D-41FE-9839-2A16C4B3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852E-6432-414F-9E47-10C3EAF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428D-6CC4-4783-A591-E4D7C0CD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D86D-A925-4211-806E-19C66284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5E17-842E-4509-8631-55134F94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9E0-E142-4FF0-9B06-99E030B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C51-63F3-4E84-B80B-47DA55D5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618-EA75-47EC-ACBF-D7763944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77C-273A-4E7D-8FA2-A109512B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E16-0537-4E2C-AECA-B3C1E66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84A-1D7D-4326-9F49-C9DEF15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4DA-667E-45D6-981B-A6747DE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645-B9FB-4CD4-AD4A-86D6192B183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3607-D4A9-4060-9C4C-87E350DD994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../../user/My%20Documents/Teaching%20wrokshop%20research%20Al%20Bayan/Al%20Bayan%20research%20Gantt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Learning from other people’s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b6b75"/>
                </a:solidFill>
                <a:latin typeface="Arial"/>
              </a:rPr>
              <a:t>Data collection: desk research for secondary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ata collection: surveys/interviews for primar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esign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Categori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Analyzing/interpreting data (E.g. SPSS program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Findings (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Discussion (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ding a research paper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fferent broad way to classify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vs. Ba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of the research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review of the  research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types of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types of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 of qualitative and quantit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way to classify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 Ethnograph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researches 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vestigate a new knowledg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Replication research: validate (maybe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scale) or in different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aptation research: validate or invalidate 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 knowledg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just 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le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erature review (Record keeping)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ology 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ings (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 (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Topic/iss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Research question/statements/assumption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Conceptual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ad1"/>
                </a:solidFill>
                <a:latin typeface="Arial"/>
              </a:rPr>
              <a:t>Method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Title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Literature review (Record keeping)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cad1"/>
                </a:solidFill>
                <a:latin typeface="Arial"/>
              </a:rPr>
              <a:t>Methodology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1:49Z</dcterms:modified>
  <cp:revision>11</cp:revision>
  <dc:subject/>
  <dc:title>Course: Fundamentals of Research</dc:title>
</cp:coreProperties>
</file>